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F10A8-F48C-419D-BD18-B48FD3AA2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3E1CA-3B53-4EF0-B348-36684582053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C8AE4-9C78-4E38-B444-752420B4A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1A281-BB1D-40BC-BF9E-45C702E23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150EA2-CDB7-41CF-9C49-2243F2C80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B7E6FF-0C53-4B8C-BA0C-C61E1AC18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B4A14E-03AE-4147-86C9-00BCEABDB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4F0453-1354-4BF8-97BD-A63ECD00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1F30FE-F145-422C-97D4-70F562ED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D6A241-B0E5-4140-B9B2-D094B9B2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690EFD-EE28-415E-9E44-C64F76621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72E570-AB88-4695-9F53-E72642CD0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B9628C-4E8D-4897-A81F-06FAF7807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EEF8A5-99C0-4950-A012-5F9A73104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70067-07A2-497C-B542-1B89A1B3F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DB17E8-3492-42EE-A8FC-1107880B8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C484ED-FC5E-44C1-9D90-837C9B2CB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FFE4E4-82A1-4238-88D5-CF395D7C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76DBF8-31D1-4D46-9A40-FDFDC7755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8A2A52-668C-4874-A174-9D6435928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9AD187-8B5A-4CB6-A1E1-F12AF7FE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880A2E-E1B7-4CEF-AF5B-647CF29E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1DD5E5-3112-4097-8750-8F091C8D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B3FF65-C247-47F8-A795-F091D077D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EF9A00-C9A8-4B09-A258-BEAFAD959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113C9-9BFF-43FA-B72B-CD5CE8885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980054-A18B-40F3-BC08-A6AADDE4A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73A0D5-C494-4B0B-A29F-ED14AAB1F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5E40DD-6ADE-40A7-84AF-66BBA23DF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D36B80-1504-4B2E-879D-C6985CAF5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6403B9-1630-4DCC-BDD6-9AB6529D5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7AEF53-65DD-4BA5-A483-7491E1DE9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181B8F-446A-4BFA-8346-A3F33D52D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D9B5FB-40B7-4DDC-A3CC-D015AD79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77042F-C36F-4B70-B1DF-9DF14015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FF3C52-C597-4293-A17C-7D23C221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665E6-3AEC-401F-B4AA-A37A95628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82964D-D059-42A3-B088-21332EE33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07A9F8-AA8B-43F5-BF9F-3FE9FF904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103D9B-6D99-4EA4-B604-E789D5CCF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D715D8-4B97-4C2D-B4B2-386610D99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B969C7-1297-47BD-872D-498EE568E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93E3C4-5E33-4755-8F99-076A2C1CF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15EF9F-DFEB-45A8-A4FC-FF4ECAC7D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EF2765-5063-458D-BAB9-37A6C2959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FCB6B6-E95C-42CB-BC41-91429ED00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FCED28-8DB1-40C2-AF68-48939C96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02507-8EB8-4505-ADDA-BDD461949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47F481-86D6-4678-8C3D-D604780F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1FCAAB-AD61-4DD2-B614-A982DA55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2E5F73-5402-41EB-BA8F-6D7F61899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30EB60-AA52-46BE-AEFD-34030D62A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6A8746-2050-4451-A50D-D643FC418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C6077A5-C7FD-4D68-ABD1-E32420B55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5805CF0-8CDA-4B5C-880A-8F156D08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8C707B0-618B-4CBF-BDB3-D487E1664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8BCDF84-B1E9-4FAD-9E49-DC903074A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91B7142-0647-43B0-806B-246CBB76F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6F7C3-5B4E-4339-942C-9389941F4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2CACB0A-32EE-4180-8034-3B284715C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084C348-BBAE-4EAC-8280-E6849A3C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BB7CDF5-D1D8-40F4-924C-37980E99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F7D27F6-32CD-4393-A88D-E02B8E1A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65E23AE-9BA6-47F1-B439-F09D9B530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D6AB89F-074A-4A3D-9AE4-CBE2186BC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1CDEBE9-0C8C-40C5-9949-38C9B070C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2F6D867-6A6B-4179-8A83-3814B77FD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B12AB79-3D75-4AC1-8FDA-29CD26246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6B07932-C299-489A-89ED-A5DF9E1E6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D1ACE-9A2B-433C-9294-B92D910E8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A081BF1-DF70-4BE9-9B77-B9A6408F6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0B00A4B-04A0-4BA7-8E23-8EEDE3377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ED84C2C-2C4D-4DBB-AC16-F3DB378BA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F2CDFCA-D066-44AD-8423-9B1A94A4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18B8BE5-06B0-49F1-BF93-DB039679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BC1B43C-73D2-4719-9BE7-13A4F10A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45799EF-2A1B-44EB-8EF8-60337C247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BCC21C5-01DE-4EFA-A547-E78B9B578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98C80FC-F02A-48CB-BDE8-4FD1E9D3B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2E8A46-1382-499F-BF63-E7F1F8B77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5237E-93E0-4934-8669-006CD55B4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5D223F-4C37-4B94-BAB0-FB46F6B63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8459F8-FC0E-4CCB-89AF-85D295E38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291B43-6368-40BD-AE5C-D28B0C73E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A6F4AF-AD90-49B3-9002-15436D24A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4612CD-2830-4B01-9D63-BBE52B85A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94F84B-7671-4E07-A5D2-0640009F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9BE5C2-F35E-4C5B-93C6-348A1F96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6AD06B-8CDD-417A-8E0E-A48B1912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957BF0-321A-471E-9ED4-89DA11B76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7350FB-A35C-47BA-8398-F18BCEB8E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77101-A951-4646-B2A7-266546FB4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154F51-7FDA-464D-A667-E4F704394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98C4B6F-2E37-449E-AAE7-60C230A26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F689E16-EC91-4D4D-971B-30FBB388B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1D46BCE-1223-400E-BDC6-067A2C3D1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A3606DD-DA65-4B42-98BF-CA8A3A173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42EA0F4-5846-4A29-97A0-D5CA48211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B792ECD-73ED-4545-A762-1BD4A607B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A8CCD1D-7664-4DE5-9BD4-B844955E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A3938A3-980A-4988-9627-755BE935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A50F7A2-8074-483C-B499-F3E83769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6EAF7-55DF-458E-A0CB-01FEB682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432FE7F-0A92-4CAF-B9A0-3BEB147A0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1F89F5D-9206-48BC-9335-0D9D8B4EF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2B677B6-3D22-4D57-8D04-BC607D430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7FCB9-2A03-466E-9EBC-18C939BDF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924F5-A6D2-4C7D-8015-DDBFD56A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86459-7219-46D8-8DEB-4BAE936B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915C3-E77F-40D2-B1F9-0F3A6339F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EE671-0378-4EB0-9BAC-BF0610FAA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D338C-FEC0-47B1-ACCF-CE083FA14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C10C3-90FE-49E6-B3DE-656505480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CDF40-C98F-46BC-9B83-8E924DB46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AA473-2762-4CBD-8776-E06409473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3BD2C-4197-477B-8A52-AF79892B6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2CF78-10D6-41EC-B8E4-B4C917A65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4D2B2-F6B4-4740-9E66-BCA46A69B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BA316-EFF1-4E16-9077-CE5FCA536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C7B2B-43B4-463C-A193-16B8A855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20C44-2386-411F-9FA0-1439DE5F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1690C-86AF-4931-A2C7-524F075F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2F0DD-AD01-4CB0-89F0-7F09522D7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23DB0-B488-4846-A776-2CCFC7575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022AF-99EF-4BA3-99C8-D2C223986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E67AD-5F33-446B-B882-F680C52FB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F1091-AAB1-4686-97D5-F92CB8C8C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579C5-166A-4D1B-972D-E0A675067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F67A9-3072-4F94-A47D-FFB589145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00EF7-4E03-4085-BFFA-37FDF5A07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8CAC1-3C6B-45FC-BEE0-D96705B34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9D5DB-8ACE-4D41-87A4-6E03C4560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6176E-DFA3-4E4D-81C8-247F8E6C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C6729-A7D4-471E-A09E-F354F88F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4D6E8-05BB-460E-894B-84A6CC6F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89A0B-236E-463C-8FD6-98617DFBD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C4037-D580-45B7-818D-BEB4346B5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5DB0E-A3C7-48D9-8344-BE0FA93BB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10A63-2ABF-4567-AE77-FE986666E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425E0-DB1E-4B9E-A3AF-CF585425D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23850-36AE-4CB3-B827-645B4E1AB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78106-2F8D-4E84-BB74-B8D496EF4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397B6-CCA6-45DA-AA43-6584C9C1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81F59-8EEF-41BE-8F5F-87D97A712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6596F-12D6-4546-A01A-E8257DD97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D1802-82CC-41CA-A891-98B05F63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FCDFF-52AB-4E72-B544-089451B3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E4D25-DEC1-42B9-BAD0-3FE27363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15F7A-0CC9-45A9-B4A7-A5DF54DF9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9ED50-F891-4327-BA46-F33AD51A7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098CD-E514-4C8E-9D62-EBA733BE0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93BA2-8FCC-4EE4-82F1-C79926760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3A3F2-B0D4-4A6C-8794-6DC41C9A0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4CE843-99B3-4624-A568-C92C194AA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2AAC7-3131-4B5A-9627-574F4485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33CB0-5B6D-4F17-A5D9-09CE4EA61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DED78-7E27-46E2-81E8-3076BA88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3D8CD-E757-419F-850F-B26596D28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CC3F92-06EF-44C1-A862-B927B688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3BE972-6C04-4501-A5B5-6C15CAF2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0563D-AEF1-4343-AAE9-47C9DFD3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17DD4-254D-42D1-9482-EF71334B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9799B-548D-45EB-B953-83C1959E6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7553CA-F424-4BA4-A827-11B0B189E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ECEC6-75FF-47E2-8F0C-9AAE209C2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FED7F-DE17-4AA5-A14D-C0B8317D3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67516-B4D9-435D-9879-1A264BBE1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EA669-DC18-4466-AF4D-5035C4E64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37808-57A1-425A-B3BD-A943CD71B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57EE9-1945-4D83-A7EA-B8013D95A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24B7A8-D1B5-4962-81C6-AAC0E71A0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55CB07-9AC4-4510-998E-9809668B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7BCDB-7BA2-488B-BDAA-E2725743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6EE800-71C9-41C8-ADAA-957CA728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7D8686-03B2-469C-BF33-5718BC08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9FCA7-5B0A-4DD7-8DF1-222DC230C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489AA-17E5-4D64-8BD6-40CF7A36B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5E5D7-029B-4278-9632-9BBF8D688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B13FED-952A-4B7A-B14C-3323981E8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D50BBD-97D1-4BCD-9343-BD398EF46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298BBA-8C4B-434A-B6CD-CE68209F4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397D75-4D03-4792-B021-9C66DB9AB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1FA2F6-3939-49D4-89B7-2F75A62F0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33B76-1F19-41AE-B412-55DCC2FF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0F43B-16B3-49D1-BC13-4DF6DCBDA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7D4723-BF47-4DEB-885B-43EF618A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60C374-CC68-4FED-8FDB-A80A0FF5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878CBD-1287-4B84-BE0D-9E592832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330DDB-7132-44A9-BFA9-E87738A9A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663593-3C8D-4F46-94ED-6E99C8ADE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FEDCBF-6AAA-469E-B241-47256C67B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E0E828-45E8-4DDB-BC3C-AE55D16F0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D3659D-AFFD-466D-AE95-A8A28C960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0C802E-F781-4E32-B654-63373C156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DD139-1F9A-4ECF-9595-7C991F637B9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28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29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30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5289D-8F67-4EF5-BA50-B5E7377007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2BA61-CA1E-4E65-A335-887DEAFE91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dt" idx="3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ftr" idx="3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 type="sldNum" idx="36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EE61-4ACA-4DEB-A682-1D2F034AEC0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1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37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D3265-7E0B-44C5-8A7F-814CBF1D40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 type="dt" idx="38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 type="ftr" idx="39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2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3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5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 type="sldNum" idx="40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266F7-CF0E-4C78-B734-00631EE0A2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 type="dt" idx="41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 type="ftr" idx="42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 type="dt" idx="43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 type="ftr" idx="4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 type="sldNum" idx="4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B079A-DAF0-4CD7-9E4E-D3E62B9D97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1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2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3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5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6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7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8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sldNum" idx="46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FC96E-9165-4195-BD36-DA483BC039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dt" idx="4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 type="ftr" idx="4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64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2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380D-5D05-48A8-BE79-65FA4E65A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9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B87BD-C8D6-4256-A4E6-0A15F96624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0D04F-9115-4A0A-97F1-600F5C358E0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27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8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9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0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1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2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3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4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FCF57-C3F7-474A-9150-DFBFA05DD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8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65123-C8D6-48BE-8733-1F75659C7C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1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A924A-83EB-46CE-A579-EEFB65F1B0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ftr" idx="2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dt" idx="23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24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5EB6C-E16F-4BCB-9D11-332054875C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dt" idx="25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ftr" idx="2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sldNum" idx="27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3BB2E-B05E-4243-B6A0-7834E1C3F1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El Cat</a:t>
            </a:r>
            <a:r>
              <a:rPr b="1" lang="en-US" sz="4800" spc="-1" strike="noStrike">
                <a:solidFill>
                  <a:srgbClr val="ffffcc"/>
                </a:solidFill>
                <a:latin typeface="Tahoma"/>
                <a:ea typeface="Arial"/>
              </a:rPr>
              <a:t>àlogo de Ropa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 estaci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a primaver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915080" y="1904760"/>
            <a:ext cx="3930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elita lleva una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chaquet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egra, un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colla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blanco, una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camiset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blanca y una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pulser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g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elita lleva ropa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ómod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de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il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ébora lleva un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vestid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negro y blanco, y un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inturó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blan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ébora lleva ropa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legan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e la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1" name="il_fi" descr="minkpink3"/>
          <p:cNvPicPr/>
          <p:nvPr/>
        </p:nvPicPr>
        <p:blipFill>
          <a:blip r:embed="rId1"/>
          <a:stretch/>
        </p:blipFill>
        <p:spPr>
          <a:xfrm>
            <a:off x="1981080" y="1143000"/>
            <a:ext cx="2097360" cy="3124080"/>
          </a:xfrm>
          <a:prstGeom prst="rect">
            <a:avLst/>
          </a:prstGeom>
          <a:ln w="0">
            <a:noFill/>
          </a:ln>
        </p:spPr>
      </p:pic>
      <p:pic>
        <p:nvPicPr>
          <p:cNvPr id="842" name="il_fi" descr="20157-fall-clothing-wholesale-long-sleeve-shirt-1"/>
          <p:cNvPicPr/>
          <p:nvPr/>
        </p:nvPicPr>
        <p:blipFill>
          <a:blip r:embed="rId2"/>
          <a:stretch/>
        </p:blipFill>
        <p:spPr>
          <a:xfrm>
            <a:off x="152280" y="4191120"/>
            <a:ext cx="1981440" cy="2324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9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	</a:t>
            </a: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	</a:t>
            </a: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	</a:t>
            </a: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	</a:t>
            </a: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l Verano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844" name="il_fi" descr="countryroadw20106"/>
          <p:cNvPicPr/>
          <p:nvPr/>
        </p:nvPicPr>
        <p:blipFill>
          <a:blip r:embed="rId1"/>
          <a:stretch/>
        </p:blipFill>
        <p:spPr>
          <a:xfrm>
            <a:off x="0" y="3200400"/>
            <a:ext cx="2590920" cy="3657600"/>
          </a:xfrm>
          <a:prstGeom prst="rect">
            <a:avLst/>
          </a:prstGeom>
          <a:ln w="0">
            <a:noFill/>
          </a:ln>
        </p:spPr>
      </p:pic>
      <p:pic>
        <p:nvPicPr>
          <p:cNvPr id="845" name="Picture 6" descr="http://t0.gstatic.com/images?q=tbn:ANd9GcQ6tYse4BaN-PbOKrHBDZEcwWSXhPjrWyafr_g6hsQSVk1wRgsI&amp;t=1"/>
          <p:cNvPicPr/>
          <p:nvPr/>
        </p:nvPicPr>
        <p:blipFill>
          <a:blip r:embed="rId2"/>
          <a:stretch/>
        </p:blipFill>
        <p:spPr>
          <a:xfrm>
            <a:off x="2590920" y="0"/>
            <a:ext cx="2286000" cy="3962520"/>
          </a:xfrm>
          <a:prstGeom prst="rect">
            <a:avLst/>
          </a:prstGeom>
          <a:ln w="0">
            <a:noFill/>
          </a:ln>
        </p:spPr>
      </p:pic>
      <p:sp>
        <p:nvSpPr>
          <p:cNvPr id="846" name="TextBox 7"/>
          <p:cNvSpPr/>
          <p:nvPr/>
        </p:nvSpPr>
        <p:spPr>
          <a:xfrm>
            <a:off x="5029200" y="1523880"/>
            <a:ext cx="4114800" cy="75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Abella lleva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una camis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blanca y negra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una fald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azul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, unos aret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gris, y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unas gafas de so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marron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Abella lleva ropa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cómodo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de algod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ó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, y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in mang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licia lleva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un vestid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azul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un cintur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ón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negro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una pulsera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negra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un bolso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gris, y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unos zapato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negros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Elicia lleva ropa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legan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e sed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876920" y="228600"/>
            <a:ext cx="395928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l Otoño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48" name=""/>
          <p:cNvSpPr txBox="1"/>
          <p:nvPr/>
        </p:nvSpPr>
        <p:spPr>
          <a:xfrm>
            <a:off x="4876920" y="1447560"/>
            <a:ext cx="4114800" cy="48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rlitos llev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n abrig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gro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nas gaf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negro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nos ten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zul y blanco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na sudader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negra,y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nos blue jea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negro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rlitos lleva rop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asual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úl llev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na chaque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zul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na camis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gris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nos ten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negro y blanco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n gorr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zul, y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nos blue jea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zul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úl lleva rop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asu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49" name="Picture 2" descr="http://www.christianheels.com/wp-content/uploads/2010/11/stussy-2010-fall-collection-0.jpg"/>
          <p:cNvPicPr/>
          <p:nvPr/>
        </p:nvPicPr>
        <p:blipFill>
          <a:blip r:embed="rId2"/>
          <a:stretch/>
        </p:blipFill>
        <p:spPr>
          <a:xfrm>
            <a:off x="152280" y="152280"/>
            <a:ext cx="4191120" cy="3016440"/>
          </a:xfrm>
          <a:prstGeom prst="rect">
            <a:avLst/>
          </a:prstGeom>
          <a:ln w="0">
            <a:noFill/>
          </a:ln>
        </p:spPr>
      </p:pic>
      <p:pic>
        <p:nvPicPr>
          <p:cNvPr id="850" name="Picture 4" descr="http://www.christianheels.com/wp-content/uploads/2010/11/stussy-2010-fall-collection-141.jpg"/>
          <p:cNvPicPr/>
          <p:nvPr/>
        </p:nvPicPr>
        <p:blipFill>
          <a:blip r:embed="rId3"/>
          <a:stretch/>
        </p:blipFill>
        <p:spPr>
          <a:xfrm>
            <a:off x="152280" y="3352680"/>
            <a:ext cx="4191120" cy="30481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a6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l Invierno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4724280" y="4495680"/>
            <a:ext cx="4608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480060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rmen llev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na chaque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blaco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n bols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is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nas bota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is, y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na gorr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negro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rmen lleva rop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legan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 la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y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asu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uardo llev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na bufand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gris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nos guant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ron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na gorr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ron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na camis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ja, y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nos pantalon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negro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uardo lleva rop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ómod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 algodó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y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 nyl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54" name="Picture 2" descr="http://img01.taobaocdn.com/imgextra/i1/11020910/T2X84rXbFaXXXXXXXX_!!11020910.jpg"/>
          <p:cNvPicPr/>
          <p:nvPr/>
        </p:nvPicPr>
        <p:blipFill>
          <a:blip r:embed="rId1"/>
          <a:stretch/>
        </p:blipFill>
        <p:spPr>
          <a:xfrm>
            <a:off x="152280" y="1523880"/>
            <a:ext cx="2210040" cy="2895840"/>
          </a:xfrm>
          <a:prstGeom prst="rect">
            <a:avLst/>
          </a:prstGeom>
          <a:ln w="0">
            <a:noFill/>
          </a:ln>
        </p:spPr>
      </p:pic>
      <p:pic>
        <p:nvPicPr>
          <p:cNvPr id="855" name="Picture 4" descr="http://www.dreamstime.com/young-child-bundled-up-in-warm-winter-clothing-thumb6546607.jpg"/>
          <p:cNvPicPr/>
          <p:nvPr/>
        </p:nvPicPr>
        <p:blipFill>
          <a:blip r:embed="rId2"/>
          <a:stretch/>
        </p:blipFill>
        <p:spPr>
          <a:xfrm>
            <a:off x="2362320" y="3124080"/>
            <a:ext cx="236196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9T13:54:46Z</dcterms:created>
  <dc:creator>bourquejus</dc:creator>
  <dc:description/>
  <dc:language>en-US</dc:language>
  <cp:lastModifiedBy>dalyale</cp:lastModifiedBy>
  <dcterms:modified xsi:type="dcterms:W3CDTF">2011-01-28T13:14:59Z</dcterms:modified>
  <cp:revision>33</cp:revision>
  <dc:subject/>
  <dc:title>El Catàlogo de Ropa</dc:title>
</cp:coreProperties>
</file>